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15C-B0AD-4DB0-BF8C-1213B961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E03-2440-415A-97CC-2F8B0A9B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F65-55B6-44BF-BEA2-5DA70AF5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D52-3578-42B9-AD9F-E806D573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E811-C76C-4753-A8C1-174AC06A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6FE5-5F46-4896-9155-F7B2380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82B3-0FC5-48CB-87EE-26E90BBC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9C72-2B9F-4FCD-8238-E02F9CBD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1CDB-06DB-4210-BBF4-9D5ADBC9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6EC7-2561-4BC4-BFA6-6E842DF4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ACEB-82C2-4BDA-9EF2-32C3BEA6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3AC-36BC-4D91-8DAF-0B2447F4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1B70-4821-4030-A740-C136061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392A-02C1-49C6-B48D-5AC324EF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8E9C-E18E-4FB7-AFC6-6022B3FE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723A-03D0-4143-A93C-C7435932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A614-362B-42CA-BE7F-ECC39FC0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AADEA-F976-430B-815D-C8F145CC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F2E7-4C2E-419A-A780-3D4BA288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215D-68E3-4EFD-989F-2EBD7656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5C9FF-F72B-4D90-A9FB-009600F3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9DD0-4AC8-4ECA-A653-46A68D40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2E3-CFBC-4212-A763-BA601860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9BED-65FB-4B56-B03D-45BC162A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EC58-F09E-4224-9BAA-4E025813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88D8-E39C-4C73-B78C-3E81A192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7BE6-F7B4-44E5-B128-3857EAE0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81944-9C09-4B7D-BB41-52299AC0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9355-3FE8-4548-9FB4-8D39DF42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BEF9-ADDA-40D1-90F4-38D0F5E9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CE4F-22A5-4651-8111-13686C2C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F56F0-9B32-481F-B917-86103A95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3D7B6-B54E-4FEB-9ABD-656C8B2C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10A-2AB0-4E43-B628-83446F33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4448A-0D85-414F-A4AF-F3C5AFC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2D7DA-F809-4945-A5B1-59CBF710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E2E7-D0BF-4F26-9C3F-E1A0C23E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6EE5C-5619-47C5-ACB2-8F42FE2A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D1A0-FCDE-401C-92C8-7B843807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BF3EA-E557-4599-B791-FAE45FB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2F2D-DA55-42DF-B575-5BB26818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9CF6B-C58D-41E5-BE45-2673307B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9DB2-30AB-43F3-81A2-0B1E7DE1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2C1D-F4C7-47FB-BC22-04F803AF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487-BCB6-4BAF-98F3-830C4816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9B210-40A8-4B78-AAA1-AE6662C6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3D9E-00BA-4672-96BE-B9FD82DB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468D-EBCE-49C9-AC80-2A86F75E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5B24-5BA5-4323-9C05-6D924B2C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2E579-0C59-456C-B14F-32312856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B151E-F9C5-4E22-AC74-36924B8A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7C8D3-D905-4518-8A8E-7AEB252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6B4B-F206-4037-9DBF-AD3FE729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F0AF-137D-44ED-8E6B-D60DDF8D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5ABB4-881E-4A29-88A9-D6BE3071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300-66D6-46BD-AC72-E79099BC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DFC6-6812-4B60-9798-74592060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01C-6BC2-451B-A153-399C7A94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9AA-99BD-41D1-AD1D-C06E09B9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82F-BC54-4DF7-94A3-7811984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4E90-1707-409F-B5F5-B5B7D450D8D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B50D-2DA3-4FD2-BDBD-1F1AC5D7D8D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0120-C4D0-4AF7-B943-ECBD4F24C04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C0C6-1F52-4D69-9CC1-44AE24E5A1CB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6878-A901-4485-84E8-C3D4585274D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 fourteen-line lyric poem, usually written in iambic pentameter, that has one of several rhyme schem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380880"/>
            <a:ext cx="72388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t as Mirror – one function of a work of art is to reveal something about the world; it can mirror beauty or unattractive aspec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asting Time – life on earth is short; it is the time after life that matters; life on earth should not be wasted on temporary th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hetorical Questions – intended to make people think, usually about their own behavi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Whoso List to Hunt”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– Sir Thomas Wyat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ditional gossip says this poem is about Wyatt’s longing for Anne Boley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yatt realized that King Henry VIII was interested in Anne as we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yatt gave up the “hunt” for Anne to whomever else wanted to pursue h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oso List to Hunt” is an adaptation of a Petrarchan sonne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Sonnet 30; Sonnet 75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- Edmund Spenser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morett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s a sequence of 89 sonne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y record a man’s two-year courtship of a woman named Elizabe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nnet 30 – the speaker uses an original convention to compare his love for a woma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nnet 30 uses a paradox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nnet 75 – Spenser uses “eternizing conceit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onnet 29, Sonnet 73, Sonnet 116, Sonnet 130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- William Shakespea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16292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1490760"/>
            <a:ext cx="7162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55840" cy="4791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330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432240" cy="4876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400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hyme scheme – pattern of rhymes in a poem; usually referred to by lett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urn – a shift in focus or thoug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eit – a fanciful and extended poetic comparison of two things that appear to have little in comm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laint – poems conveying laments of unrequited lovers; melancholy po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taphor – comparisons of two unlike th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533520"/>
            <a:ext cx="7238880" cy="59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rsonification – a kind of metaphor in which a nonhuman or nonliving thing or quality is talked about as if it were human or had lif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magery – language that appeals to the sen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ody – the imitation of a work of literature, art, or music for amusement or instruc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storal – a type of literature that depicts country life in idyllic, idealized ter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rpe diem – a Latin phrase which means “seize the day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tire – a kind of writing that ridicules human weakness, vice, or folly in order to bring about social refor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723888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adox – an apparent contradiction that is somehow tru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usion – a reference to a statement, person, place, event, quotation, or work of art that is known from history, religion, culture, etc. the reader is expected to know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trarchan sonnet – named after the fourteenth-century Italian poet Petrarch, who popularized the fo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Divided into two parts—an octave (8 lines) and a sestet (6 lines)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Rhyme scheme: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ctave – abbaabb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stet – cdecde  </a:t>
            </a: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cdcdc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The octave usually presents a problem, poses a question, or expresses an idea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The sestet resolves, answers, or drives home the idea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c6c6c"/>
                </a:solidFill>
                <a:latin typeface="Trebuchet MS"/>
              </a:rPr>
              <a:t>The turn usually occurs at the beginning of the sestet</a:t>
            </a:r>
            <a:endParaRPr b="0" lang="en-US" sz="22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2388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enserian sonnet – widely used by Edmund Spens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ivided into three quatrains (4 lines each) and a couplet (2 lines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hyme scheme – abab  bcbc  cdcd  e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380880"/>
            <a:ext cx="72388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akespearean sonnet, or English sonnet – widely used by William Shakespe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Divided into three quatrains and a couplet 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hyme scheme – abab  cdcd  efef  g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The quatrains often express related ideas or examples.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The couplet sums up the poet’s conclusion or message found in the first thre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The turn usually occurs at the end of the third quatrain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eat Chain of Being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od -&gt; Nine order of angels -&gt; man -&gt; beasts -&gt; plants -&gt; ston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ritas – love of God and any person or thing as a creature of God; considered unselfish love or char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upidtas – love of any person or thing to satisfy one’s selfish desire; love motivated by pride; therefore, false lo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380880"/>
            <a:ext cx="7238880" cy="60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ide – sin from which all other sins grow; the sin is making oneself more important than G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utability – based around the idea that nothing of this earth will last, so people should not put hope in things of the world, but in Go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/Abuse – all that man possesses, including life, is a gift from God; man chooses to use it or abuse it for his own pr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son vs. Passion – ability to think clearly and make choices based on thoughts; man was created as a reasonable creature, but when passions take over, man behaves irrationall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8:57:24Z</dcterms:created>
  <dc:creator>pcoles</dc:creator>
  <dc:description/>
  <dc:language>en-US</dc:language>
  <cp:lastModifiedBy>Trina Vest</cp:lastModifiedBy>
  <dcterms:modified xsi:type="dcterms:W3CDTF">2009-03-31T16:18:52Z</dcterms:modified>
  <cp:revision>8</cp:revision>
  <dc:subject/>
  <dc:title>Sonnets</dc:title>
</cp:coreProperties>
</file>